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2C79-0230-458A-9515-71F5A0CF0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555E-21BB-47C8-8D0D-8480F89D9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E7C-7D82-4E92-AAAE-CB2D0C73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154-49C7-4F52-9C9F-C3A5B32E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6BFB-3BF5-42BC-BA15-647F6F11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363-3E55-4683-8074-2DCBA69A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B31-F624-4E0E-8A59-F736BA2B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DB87-98E5-4C7B-B0AC-7B31EE5F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88D-CBB1-4570-B29E-0556AD29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A65-CCA4-43BB-8B80-04C0F750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F7C-E4FC-4353-96D7-E0DD8341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0D8E-D985-44C3-BC32-03A08BCF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A4D-7673-46B9-B7F7-DBB0EEF0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A33-6FC9-45CA-BBFC-E477CBE3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6FE5-58A9-4158-9F35-58E51EF78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u descripción….me llamo Somaiya Jalil.  Vivo en America. .Tengo catorce años. Yo tengo dos hermanos. Yo soy peti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, te amo uno directiono y justin bieber ¿y tu? Juntos podemos cambriar el mund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 me gusta para abrir libros grande. Tu eres bonita. Mi hermano tiene siete aÑ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 es lindo. Somos jovenes y tenemos que vivir la vida al maximo. Estamos felic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Usted esta aburrido. Mis familia,  estan trist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048120"/>
            <a:ext cx="3657600" cy="7617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, yo tengo muchos amigos. ¿Cuantos amigos tienes? ¿Cuantos miembr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De la familia tu tienes? Yo tengo quatro miembros de la familia, mis mama, papa, 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Dos hermanos. Ellos amor alimento. Nosotros tenemos una familia feliz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llos tienen muchas diversion. Buenos noch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, buenos dias. ¿como esta?  ¿Cuantos años tienes? Tengo catorse an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soy joven, feliz, energetico, diversion, cansado, y intelig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donde quieres vivir? Yo quiero vivir en Ireland, London, y Canada. Adios amiga.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7432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8:31:41Z</dcterms:modified>
  <cp:revision>117</cp:revision>
  <dc:subject/>
  <dc:title>Profile</dc:title>
</cp:coreProperties>
</file>